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B127-09CA-46F0-B29D-C39432B4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C8AC-E24E-43E6-BBE9-C763AE47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7718-DD1E-4376-8873-120F4D286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85B6-4B1E-4697-BADA-EA116F2F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A576-14ED-49A8-A3E7-DF0E9837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AF7A-E121-4E15-90B5-95E40673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93E2-E236-4EC5-8EF2-5F1FA7EA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1ECB-F03E-4182-88B1-A183D7BD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F3EC-85B7-4C38-8694-0337BF17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0BB3-D948-4236-BE26-3E342CE4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3B5C-003E-4961-BEFA-4AA67843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AEA6-853D-42D4-9FCA-4361169C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CF53-3F24-4D3B-BD4F-54DE0EFCD8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760" y="2057400"/>
            <a:ext cx="7041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antel-Haensze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est fo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tratified Analysi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86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91120" y="4038480"/>
            <a:ext cx="990360" cy="1067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96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7816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4267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5800" y="4952880"/>
            <a:ext cx="78487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162920" cy="2438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7162920" cy="838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14400" y="3962520"/>
            <a:ext cx="7086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467480" cy="5257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934320" y="5715000"/>
            <a:ext cx="144756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467480" cy="4038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934320" y="4114800"/>
            <a:ext cx="144756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14400" y="4419720"/>
            <a:ext cx="73915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467840" cy="5715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781680" y="5791320"/>
            <a:ext cx="14479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620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7T03:44:33Z</dcterms:modified>
  <cp:revision>217</cp:revision>
  <dc:subject/>
  <dc:title>Slide 1</dc:title>
</cp:coreProperties>
</file>